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036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01BC8C-DC24-4B62-A8C5-440C6AC100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59480" y="883620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A84EAFA4-FF55-4839-A30B-FD893FEF4CD9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6920" y="70488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DA0060-1759-4869-ADA5-835B7A89639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F52CD2-8453-42B2-B922-1873BCE06C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56FDFDA6-943A-42F0-A788-9E21EB6102F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E8C59586-029F-4DEC-B939-D7AC39654B9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12068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10: Summary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You Were He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systems that depend on software is among the most challenging technical endeavors of ou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job of the software development team is to develop and deliver a quality product within cost and schedule constra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chieve this objective, we must learn to use a disciplined approach to software develo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You’ve Learn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you were introduced to disciplined methods for producing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learned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nd use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historical process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the quality of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seen the potential benefi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235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now prepared to apply what you’ve learned as a member of an integrated product development team that is using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and TSP can provide you and your fellow team members with a rewarding and satisfying project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s that you can make and ke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is up to you!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complete the evaluation shee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forms now and give them to an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areas for course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 on the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instructors an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course additions and dele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areas where the timing was too slow or f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expect to have ideas later, please take another copy of the evaluation form and send it to 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4240" y="44892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4000" bIns="540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6800" y="1760400"/>
            <a:ext cx="7559640" cy="48816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7520" bIns="47520" anchor="t">
            <a:normAutofit/>
          </a:bodyPr>
          <a:p>
            <a:pPr marL="131760" indent="-131760">
              <a:lnSpc>
                <a:spcPct val="90000"/>
              </a:lnSpc>
              <a:tabLst>
                <a:tab algn="l" pos="0"/>
                <a:tab algn="l" pos="1100160"/>
                <a:tab algn="l" pos="2200320"/>
                <a:tab algn="l" pos="3300480"/>
                <a:tab algn="l" pos="4400640"/>
                <a:tab algn="l" pos="5500800"/>
                <a:tab algn="l" pos="6600960"/>
                <a:tab algn="l" pos="7701120"/>
                <a:tab algn="l" pos="8801280"/>
                <a:tab algn="l" pos="9901080"/>
              </a:tabLst>
            </a:pPr>
            <a:r>
              <a:rPr b="0" lang="en-US" sz="9900" spc="-1" strike="noStrike">
                <a:solidFill>
                  <a:srgbClr val="9c2108"/>
                </a:solidFill>
                <a:latin typeface="Arial"/>
              </a:rPr>
              <a:t>Thank You</a:t>
            </a:r>
            <a:endParaRPr b="0" lang="en-US" sz="9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1:30:08Z</cp:lastPrinted>
  <dcterms:modified xsi:type="dcterms:W3CDTF">2018-09-06T00:16:08Z</dcterms:modified>
  <cp:revision>79</cp:revision>
  <dc:subject/>
  <dc:title>No Slide Title</dc:title>
</cp:coreProperties>
</file>